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5EE4A-38B0-40CC-95A9-BF8E143C26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move the slid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1C0BC-1E52-485D-8633-D087C707C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34D1B-B732-4857-AAED-EE19FD66D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1141F-B1BE-4776-9794-AB04C9AEE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5F1-3E60-4D21-AA52-D555B01C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8B1-BFA1-4C9D-B8C3-4DB4654A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85C48-FD57-4FA8-92B8-993838FC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A6BFE-45C8-4DF0-87B6-1B7A79BA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0A3DB-9AF3-41C6-A96A-726546EA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B2FE8-A6BE-47D9-9300-13B8CB0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987BB-2411-4DBF-A603-BDD4603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B0E56-5579-4C8D-8F29-660EA52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37D3D-A7AE-4B34-97EC-87D16ACB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0596B-BF50-4ABB-8DE2-8842BAE4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EAC97-6C4E-42F3-B305-325C5C34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8F441-F3E4-467C-A041-A28DD2B9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FE8-247F-44EA-88A2-60B4DF34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39DA6-4265-4D0E-B5C5-62B33473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5909D-0AF4-4ED0-897C-1185A2A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8DF2F-17A3-4D9D-B802-471460F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178A4-ADDD-4700-BEF3-2B7E422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B6A73-F4F7-45A5-9926-92D38D6D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FD437-B831-4875-95FB-1C251A9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0584C-3763-469E-90A2-FC7B232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A9FA0-CE3F-4440-9ECC-6A59EB29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3C65C-387C-4D53-84E0-53FC5A0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4C216-5670-4FF8-8B6A-BF601657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03C-3B3E-49C4-A4C7-024CFD52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A0379-C71F-45A9-8DBF-E6E12D32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24A601-31F3-4571-94BE-65346E7D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540FFD-277D-4556-9C0B-7CE2DD0A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A9DF48-79FC-4285-BF3B-379609EE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FD9AA5-0858-45DB-8FC8-88645067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E3C387-71FD-4377-A2F2-12693B2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908138-D99F-4696-91EF-D7A6C7FB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EDC89D-9E17-4482-9E16-CD3E6DB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12439C-3808-4ECA-9284-C92104A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FF91AC-8BED-4D10-9317-DB5492D4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BCD8EE-401D-43BF-AD94-B49C3C3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A011EC-D22D-43E4-94D6-3B0AA9D8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78B9DB-E4AB-4D33-977E-80FC0FD6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74FC2-8F11-42F9-8673-9269B568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70ACAC-A22F-43B9-A2E0-BAD70304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F8558-6CDD-4BD6-9091-8F5F8163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6CFF6-E3DA-4EC2-9ACB-D0DFB726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B1212-C549-4C81-B764-AC620E4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6DE27-F00D-4E2B-9886-FB25ABF1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4A290-A071-4ADE-8451-282101D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1A0C5-6B03-48DA-B119-25BF81B7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F96FF-6AE4-4E59-B1A9-6294DD7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F56F0-906E-4AF1-B77E-CD95E27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D5CCF-085D-4243-83FB-F278849A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E8B8F-BC71-4CFA-975F-B6BAC57E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4F9F28-9D56-4F14-88A9-A32EEE42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44F6D7-810A-434D-AD00-85B3A13F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B5966B-68C6-40F3-830C-7F22F50D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D0BDF9D-EF1B-4F19-8E02-1C11225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501EE9-78CA-42C1-89BD-947FAC46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98B72B-DEA4-4732-89B6-739DB54A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19093C-B74E-4295-9C66-CA1A1CBE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8620C9-7FEB-4FDE-AD2B-B3225DD3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53D83A-C520-4C64-8453-41764536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222D73C-FEF4-40A8-A4C9-67384F0E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757082-3F4C-4498-B88F-1815E3C4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39C90B-CECA-447E-B53D-F4BF9296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4D7CB-FA0E-4779-A2E4-FBE2A74F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1BCC7-97B7-4347-ACBC-082363E3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CD05C-5F52-4909-8EB8-11F263E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E8F17-A8B0-4E07-BECF-28DAE45B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8204E-7516-4775-8ADB-C55C17AD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BCD52-DD7F-4DE3-A2DD-014D4921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4B6555-AEF1-4CBE-B0C8-1A731E1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84170-6909-405B-9153-7E60F6C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60A32-1589-428E-9D70-B4E9414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26CEB-991A-4C31-B971-B2A3E6C6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1F618-CA1C-4975-A030-176FFB54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79DDB-004C-4278-9A62-C84A569A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CD20E-7F6B-4E7F-AED2-6ABB751C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6BE6D-F0E0-428C-B898-C7397FC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C14F5-CDFB-48D3-8B39-BDE1AB54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8C783-1E04-4B6F-AFAC-80AA89F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F60F3-83EA-4BAD-A13B-75A6EBB1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0A9DA-6736-473F-A389-85E65FAD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4AE6E-600F-43FB-86E6-B5953B7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7E4C5-D07D-4218-8DDB-1DF45D48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6AB4D-0773-4000-8246-C63BE867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0276F-12DA-4B02-9465-D48973D6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51A73-23A4-4089-A2BB-4A281A7C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A8AD5-13F4-42C0-9AE8-7DD56B5E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C6A6A-85D6-4BC3-B91C-CD4664D9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CEFC7-D1AA-4C83-BFDE-F34467BE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C0007-B7A3-4B82-8696-BECB2C56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079F8-0B8A-4F8F-A474-E9F00D87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ED75A-156E-453C-B808-F324F69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743A0-3054-429E-803C-D091207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A963F-D413-4388-B827-E6E338D2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1FC-081A-43DF-BDB4-04E1EB8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546414-B358-447F-9152-BC0A6F9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EB8A5C-44B2-43B1-9E0E-99E466C7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A2920-9B31-4C72-A8DD-FD320A28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49743C-45A0-4614-AF1B-35025834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A08B3-C01A-49C0-B758-D50A1C82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DA6D1-ECC6-46C9-9BBF-E3C8CC49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2AE98-D30C-4EAC-A102-1E208C5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9F4C24-4EB0-4A6E-979B-CAFD2D36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87EB4-41A4-4250-ACA2-85648400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9C477-E1F5-46C2-A9DE-3EBBCC69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A0BBC-B3BF-4E5A-A875-EF08E61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AC091-CB7A-4C8F-8717-B39F9A04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81636-85BE-421D-AD94-D6BCBB06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C0A95-50B4-4AEB-AC71-1A15397E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DB3A4-E306-445D-AE0C-3FE246C9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823BF-F923-42F0-881A-1B8BBF81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E4193-358B-45A3-896F-860E186D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0B888-4AA8-461A-A036-3809778B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6910C-EE81-4B92-AD20-FF1EC070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2A93D-BEF0-4E62-9F0E-BC7796F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A7F35-6445-4183-8DD2-A2BCB3E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54F8B-77F4-4DF2-9A25-170A66A1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04073-38A6-41BC-80BD-E481177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54ED2-4F15-4877-A48C-B3A1EED7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70FE6-DAE0-4499-A04E-8F183701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F66A6-00B6-4EAA-AE75-87D5898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6D776-2DEC-4433-A476-F157C45A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47475-D464-46CC-B030-AD439A04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5D795-977B-40E4-962C-F2D9115C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B992E-3149-4D86-980F-3C230F95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2A562-20BC-42FF-9AB6-8B2EFFAD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6A19D-2540-4E24-8C78-A65FC950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7C731B-2414-4C71-82AA-BEC578D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4D8C9-870E-4F93-B909-AA324EB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203F9-0BD7-4B96-A287-2773C660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96DF6-5C39-4BEE-BD93-10D0E53C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4EE55F-A8E6-44EC-BC73-BC783CB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82EB0-8919-4EE2-97A1-FC06B87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01CC1-E293-47C8-B557-D8B729F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EED3C-C4BA-4003-ADC1-646DFBF7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9DC37-9EF7-4823-8FA5-4383F470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3B168-3715-42AD-AF50-02F93BAB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4043B-390F-4224-9ED9-15F38F82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28D73-51F6-49C6-ACD7-DCF71FC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14CBAA-D2AA-49EB-A129-8322AEBE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D8334-A121-459F-A5F7-A12B01BB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AD7402-8B19-4705-877B-47CCCD21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6A6DA0-830F-4CFA-B82C-9DE8CB3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A4C52-D9BE-4C82-8933-A836701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FBFFE-6034-4294-B416-9B444B74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53853-A61E-49F2-B2A4-4828679C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0BFEBE-B2EA-451A-A7B5-A265FA1A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57688-3D59-45C5-B83B-5623579E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51802-A004-4DA3-808E-82AF9EF6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C8433-881B-4FCB-A06A-62F5A953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F4D4E-442E-4608-9537-A553FB05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C75D3-483C-480D-AC8D-5914487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16EBE-D79D-44D9-AD20-07482716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0D3-CBC9-4006-83B3-B13772E9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FF75F-0D6B-4650-B581-D3673773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F42E9-5A1F-4F65-93EB-B9B8827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521B0-DDFD-45B3-A4A6-915B4F19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BC4D6-8F37-45A6-929C-EFD34524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39A5B-DB03-46EA-BA25-C787D016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6E328-305D-4309-AB21-EE1814C9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966F7-4EE7-4851-A462-F8F020F6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01190-580C-4524-97DD-DF4DF8E0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20B3C-C7BF-49D2-BD72-E6042680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DA167-B02D-47EC-B70F-95B58DE6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311-8ADE-4577-9FD2-82D210C5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6FA524-A63D-4BC3-B525-3404D26B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2E910-12A0-41D7-8682-05DA215E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A7C38-4555-4231-BFBF-25D10955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6BF70-3B7B-4DBB-91D2-01884A7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0403C-CA45-4386-801E-6943DD3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69952-C2CA-4089-B636-7A7EC58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F2EAC-1082-486F-AE0D-B76E55F9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16B02-7D1D-4F7B-A7CA-644531B6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7FBF8-4B55-4BAB-9AB2-2381BE60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8F4-2C7C-4F5F-B5DC-4B23CA6B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4A9-DF67-42FD-928C-5E73FF93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02DC0B-39CA-4A43-9162-D242EE46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6EDCC0-3E29-4F7D-9008-FE531F7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C255C-4C68-422B-A660-D73DCC55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4251D-DAC9-4905-9353-3E5364A5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A31169-F72F-4EA1-BD56-4797FD78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262A88-411D-451B-A604-DA6364B7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6C9B2F-9DF0-4BB0-90AF-3684AB6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90F99-1417-4278-A1AD-7597336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039C8-940B-4B49-AB20-387D813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98C-EEFE-4144-9554-C2EA526E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9C09A-39AF-4F85-8695-BEA086D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CAA3AF-A5D3-4E33-95A5-965CCE0C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5F778E-40F1-49FD-A063-B855BB2A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C1F714-5373-42C5-8E5C-9B54A92D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979288-C4F8-42CF-A0AA-5544A729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72B77F-B30B-4527-92D1-A145D37E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3F98A7-8538-4165-B8BC-D22353CE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D4DB2-D54A-4FF6-806C-47A68356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1B5ABB-75C8-4D46-9239-3A67EC9F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EBB5D-B3AD-487A-9A6C-45C64F1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C80-F19F-49B6-AF7F-D8924E6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52F82-87D9-40B9-BFA3-FDA39EE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5F2797-C3F5-48C0-AEF3-E83A75D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8EF7D6-6B4F-4AE8-9BEF-BB6EFB6E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CEFA0B-4381-46B6-A6A9-5979EC2D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86E206-005A-4427-A388-B37C4D5C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826DEC-2CBF-4004-AB8E-FAE29BE6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963F3-6EAF-4676-A072-A00989F9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4B2DF0-CADD-4CA9-83F4-D6C9561F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C70F80-3F5C-4D90-8F4B-CA2C8CF8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2803C5-FD55-4DC6-A098-64143EA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DDB-03AD-4A06-84A8-BC41DED6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F7D29-E0C0-4CC2-B458-051C919E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51FA69-5DD1-478C-81E6-B13A2D9A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9E7CD2-7ECE-453E-95AF-43B37E79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C9CBAB-3814-49F7-9281-DB8291A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5A5A3C-B68B-438D-B7A1-49BAB836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E8FAE-1D52-4DA4-880B-92F9DD7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1502EC-859B-471B-8FDD-E5C1719D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6AFC8-D936-4BC3-BC9F-94AEBACA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F197D-A55E-4B71-A048-E73C20D7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DE7FD-CD77-4117-9EB1-DB64A193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C8481-B8F4-4F8B-A700-240E78348F71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BB708-C673-4889-9AFF-A15297D7170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52E6E-0D18-4231-9AFB-3CFED44EB13B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8DF35-2829-43ED-A43C-6C2DA206F44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AB9F0-07DF-4907-BC64-B19E3EAB415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3E8AA-147B-4FA4-8608-7AB1AA3C362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019F5-D0A1-4B7B-A99A-11B419800D5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F3D46-055F-4D5C-BB65-C92B9CB4CEA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B2CA6-0400-41A6-BDA2-E438303E0A1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BEB2C-A0C2-4F26-89CD-3076D29CD864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E4FD2-FF97-4C3E-BFF2-70AFAE2F4D1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69EDC-02F4-48CE-9DB4-3BCCCD5EF6B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76423-E45B-4D96-B39E-85D3ACF2537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24717-D252-4E1B-B4C8-0FD03E54D12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FC4AD-0EAA-41AE-861B-426C2CC91871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C4862-BE4E-40BE-B3F8-828651ECA5AD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349B2-EC09-4357-A45F-4B344499B8B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8A590-BEAA-4EFE-A28E-6853F727FA1D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BAF45-088F-4839-9330-C7A9491FFBF3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11169-6F60-45DF-80F9-EA6F3A2B0D9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EC2F4-FE19-4051-9C66-FB38DB18A8BD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5B98C-1601-4D0B-8B45-5C4A0A2D6665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A6558-0655-45F7-8F1B-172618285CD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B4C12-9CA7-48F8-A689-1DD89EAE93C2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FD247-078F-4E88-AF45-78430CC13FF3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07A59-DEB7-49DC-A394-41C60C594E2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A4D70-EDCE-4630-92DE-4A7D5A124904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7B318-AEAB-47E1-A71C-8843C2AD62A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DBEF2-FA2A-45BC-8211-84E8524B1FFC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867EF-8570-4347-A1D6-A75B36EBA208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5B712-3404-4164-BF6D-E6B2EA5B9F2D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B9EE7-E4A7-4C61-97EE-2DBD47EB3C08}" type="datetime">
              <a:rPr b="0" lang="en-US" sz="1100" spc="-1" strike="noStrike">
                <a:solidFill>
                  <a:srgbClr val="ffffff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EDB4B-9245-47C8-91EB-3BAE86CBCEE0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8C0FC-F862-44BB-A09B-298DCEA7EBF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5D24C-1EE2-4B00-87CC-AFF04BAFE00F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A3591-D170-427C-944C-EA89946BA28F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14C81-D108-4DF1-840E-E5F6B5DEA3EC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06D38-37AD-4B25-B963-2FC52F1AA728}" type="datetime">
              <a:rPr b="0" lang="en-US" sz="1100" spc="-1" strike="noStrike">
                <a:solidFill>
                  <a:srgbClr val="595959"/>
                </a:solidFill>
                <a:latin typeface="Rockwel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A8AB7-F518-4B66-8D62-DAB83223A787}" type="slidenum">
              <a:rPr b="0" lang="en-US" sz="14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657160" y="4624560"/>
            <a:ext cx="618156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66"/>
                </a:solidFill>
                <a:latin typeface="Rockwell"/>
              </a:rPr>
              <a:t>Logical Fallacies</a:t>
            </a:r>
            <a:endParaRPr b="0" lang="en-US" sz="40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3205080" y="5562360"/>
            <a:ext cx="563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Rockwell"/>
              </a:rPr>
              <a:t>What’s wrong with the way we think?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TextBox 3"/>
          <p:cNvSpPr/>
          <p:nvPr/>
        </p:nvSpPr>
        <p:spPr>
          <a:xfrm>
            <a:off x="607320" y="635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4" descr=""/>
          <p:cNvPicPr/>
          <p:nvPr/>
        </p:nvPicPr>
        <p:blipFill>
          <a:blip r:embed="rId1"/>
          <a:stretch/>
        </p:blipFill>
        <p:spPr>
          <a:xfrm>
            <a:off x="595440" y="345960"/>
            <a:ext cx="8127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ask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n pairs, please discuss and provide examples to explain the following fallacies: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lippery Slope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d Herring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Post hoc ergo propter hoc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enetic Fallacy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gging the claim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Begging the question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ither/or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d populum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Straw Ma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Moral Equivalenc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15800" indent="-20772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07720" indent="-207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66"/>
                </a:solidFill>
                <a:latin typeface="Rockwell"/>
              </a:rPr>
              <a:t>Logical Fallacy</a:t>
            </a:r>
            <a:endParaRPr b="0" lang="en-US" sz="4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According to Webster’s Dictionary, a fallacy is </a:t>
            </a:r>
            <a:r>
              <a:rPr b="0" lang="en-US" sz="3200" spc="-1" strike="noStrike" u="sng">
                <a:solidFill>
                  <a:srgbClr val="663366"/>
                </a:solidFill>
                <a:uFillTx/>
                <a:latin typeface="Rockwell"/>
              </a:rPr>
              <a:t>an error in reasoning or a flawed argument</a:t>
            </a: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It’s an argument that </a:t>
            </a:r>
            <a:r>
              <a:rPr b="0" lang="en-US" sz="3200" spc="-1" strike="noStrike" u="sng">
                <a:solidFill>
                  <a:srgbClr val="663366"/>
                </a:solidFill>
                <a:uFillTx/>
                <a:latin typeface="Rockwell"/>
              </a:rPr>
              <a:t>does not conform to the rules of logic, but appears to be sound</a:t>
            </a:r>
            <a:r>
              <a:rPr b="0" lang="en-US" sz="3200" spc="-1" strike="noStrike">
                <a:solidFill>
                  <a:srgbClr val="595959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8600" y="134640"/>
            <a:ext cx="75564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o err is human . . .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98600" y="1980720"/>
            <a:ext cx="75564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Fallacies are all around you…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50d7"/>
                </a:solidFill>
                <a:latin typeface="Rockwell"/>
              </a:rPr>
              <a:t>Advertisements in magazine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T.V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50d7"/>
                </a:solidFill>
                <a:latin typeface="Rockwell"/>
              </a:rPr>
              <a:t>Billboards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Radio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50d7"/>
                </a:solidFill>
                <a:latin typeface="Rockwell"/>
              </a:rPr>
              <a:t>Can you think of a place where there are NO advertisements?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8240" y="1130400"/>
            <a:ext cx="75596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Rockwell"/>
              </a:rPr>
              <a:t>Where do we commonly see logical fallacies?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How are we affected? 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Rockwell"/>
              </a:rPr>
              <a:t>What might be the impact of being told that we are not smart, pretty, handsome, rich, clean, or good enough?</a:t>
            </a:r>
            <a:endParaRPr b="0" lang="en-US" sz="26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Rockwell"/>
              </a:rPr>
              <a:t>Or that someone else isn’t one of those things?</a:t>
            </a:r>
            <a:endParaRPr b="0" lang="en-US" sz="2600" spc="-1" strike="noStrike">
              <a:solidFill>
                <a:srgbClr val="595959"/>
              </a:solidFill>
              <a:latin typeface="Rockwell"/>
            </a:endParaRPr>
          </a:p>
          <a:p>
            <a:pPr marL="217080" indent="-21708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What does the casual acceptance of surrounding ourselves with fallacies say about us?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Ad hominem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d Hominem (meaning “against the person”) attacks the person and not the issue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First, determine whether the personal attack is relevant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Rockwell"/>
              </a:rPr>
              <a:t>Example: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i="1" lang="en-US" sz="2200" spc="-1" strike="noStrike">
                <a:solidFill>
                  <a:srgbClr val="595959"/>
                </a:solidFill>
                <a:latin typeface="Rockwell"/>
              </a:rPr>
              <a:t>Bill Roberts has been campaigning for the library tax.  But what I want to know is what Bill Roberts thinks he knows about a library.  He only has an eighth grade education, and I would bet that my eighth grade son has a higher IQ than Bill does.</a:t>
            </a: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 </a:t>
            </a: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Appeals to Emo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Appeal to emotions manipulates people’s emotions in order to get their attention away from an important issue.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Rockwell"/>
              </a:rPr>
              <a:t>The appeal arouses your feelings or anger, fear, grief, love, outrage, pity, pride, sympathy, relief, etc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If you allow murderers to be set free after serving only 15 years, you are giving them permission to kill again. 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Hasty Generalization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Hasty generalization (or jumping to conclusions) draws a conclusion about a population based on a small sample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66"/>
                </a:solidFill>
                <a:latin typeface="Rockwell"/>
              </a:rPr>
              <a:t>Example</a:t>
            </a: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:  </a:t>
            </a:r>
            <a:r>
              <a:rPr b="0" lang="en-US" sz="1800" spc="-1" strike="noStrike">
                <a:solidFill>
                  <a:srgbClr val="330f42"/>
                </a:solidFill>
                <a:latin typeface="Rockwell"/>
              </a:rPr>
              <a:t>I’ve met two people in Nicaragua so far, and they were both nice to me.  So, all people I will meet in Nicaragua will be nice to me.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-OR-</a:t>
            </a:r>
            <a:endParaRPr b="0" lang="en-US" sz="24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66"/>
                </a:solidFill>
                <a:latin typeface="Rockwell"/>
              </a:rPr>
              <a:t>Example</a:t>
            </a:r>
            <a:r>
              <a:rPr b="0" lang="en-US" sz="1800" spc="-1" strike="noStrike">
                <a:solidFill>
                  <a:srgbClr val="b870b8"/>
                </a:solidFill>
                <a:latin typeface="Rockwell"/>
              </a:rPr>
              <a:t>:  </a:t>
            </a:r>
            <a:r>
              <a:rPr b="0" lang="en-US" sz="1800" spc="-1" strike="noStrike">
                <a:solidFill>
                  <a:srgbClr val="330f42"/>
                </a:solidFill>
                <a:latin typeface="Rockwell"/>
              </a:rPr>
              <a:t>I do not believe that Dr. McKenzie is a trust-worthy physician.  Two of my friends were his patients, and he incorrectly diagnosed both of their cases.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Stereotyp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A stereotype is a special and dangerous form of the hasty generalization.  There are national, regional, religious, racial and many other kinds of stereotypes.  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Rockwell"/>
              </a:rPr>
              <a:t>Example</a:t>
            </a: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:</a:t>
            </a:r>
            <a:r>
              <a:rPr b="1" lang="en-US" sz="2800" spc="-1" strike="noStrike">
                <a:solidFill>
                  <a:srgbClr val="595959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b050d7"/>
                </a:solidFill>
                <a:latin typeface="Rockwell"/>
              </a:rPr>
              <a:t>Don’t expect John McKenzie to spend much on your date tonight.  His parents are Scotch, after all.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6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Types of Logical Fallacies:</a:t>
            </a:r>
            <a:br>
              <a:rPr sz="3600"/>
            </a:br>
            <a:r>
              <a:rPr b="1" lang="en-US" sz="3600" spc="-1" strike="noStrike">
                <a:solidFill>
                  <a:srgbClr val="b050d7"/>
                </a:solidFill>
                <a:latin typeface="Rockwell"/>
              </a:rPr>
              <a:t>Circular Reasoning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9860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Rockwell"/>
              </a:rPr>
              <a:t>Circular reasoning is an attempt to support a statement by simply repeating the statement in different or stronger terms. </a:t>
            </a: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400640" y="1986120"/>
            <a:ext cx="3657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Rockwell"/>
              </a:rPr>
              <a:t>A confused student argues: “You can’t give me a C.  I’m an A student!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Rockwell"/>
              </a:rPr>
              <a:t>A satisfied citizen says: “Richardson is the most successful mayor the town has ever had because he's the best mayor of our history.”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2:55:40Z</dcterms:created>
  <dc:creator>Taylor Long</dc:creator>
  <dc:description/>
  <dc:language>en-US</dc:language>
  <cp:lastModifiedBy>Ariftesl</cp:lastModifiedBy>
  <dcterms:modified xsi:type="dcterms:W3CDTF">2011-06-21T09:14:31Z</dcterms:modified>
  <cp:revision>15</cp:revision>
  <dc:subject/>
  <dc:title>Logical Fallacies</dc:title>
</cp:coreProperties>
</file>